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mmoniak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onzen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m Blu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releva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7360" y="54936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mmoniakkonzentration im Blu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4T16:47:04Z</dcterms:modified>
  <cp:revision>331</cp:revision>
  <dc:subject/>
  <dc:title>Vorstellung einer Neuheit</dc:title>
</cp:coreProperties>
</file>